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BFC4-BF90-4ECC-A94A-F24425F24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0214-521E-429E-ADFC-F56B05033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91A4-A34A-40EA-8DFB-C5A40E860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6D8D-3F85-472A-A356-ED821AC30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80F4D-15D8-4172-A749-FB285A414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75420-D8E4-496F-A882-C5A216AA4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E1CE5-3345-4351-A7AF-E0F50752B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9AB4D-54A9-4B7A-9355-8CBB705DF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F9126-ABCD-4E06-94D4-5FA83AE3F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29447-9A86-40FA-AA7F-E883D9CBD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10B10-4C05-489E-BE65-BCFB344F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0BAB-7276-45E3-AB8F-FD81B47C8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EE9C1-41A0-4AEC-A71C-CEFDA88F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A3445-FA4C-4C4E-90F1-35FD7292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5715E-B7FC-491A-B8E4-FAD51703A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9C809-66CA-48E5-9A8E-3D472CE20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92194-B684-48C4-ADBB-096EBB1D9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9714-C1BD-4996-B5E5-01B4CF8A4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4D81-D737-44C8-BBBD-0CFBF2E74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A0A3-94F9-4E4E-BD9B-AC412151C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E6EE-5870-49B2-9B78-DC00836F5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939A-1BF3-4957-9DE3-D489AC67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1456-E474-46D2-B2B6-964F0533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6083-B087-4C22-A3B5-822D2611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D600E-06EF-4552-81A8-77785C4971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50E8A-3F61-4A24-A579-44B7637981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podloga"/>
          <p:cNvPicPr/>
          <p:nvPr/>
        </p:nvPicPr>
        <p:blipFill>
          <a:blip r:embed="rId1"/>
          <a:stretch/>
        </p:blipFill>
        <p:spPr>
          <a:xfrm>
            <a:off x="649440" y="482760"/>
            <a:ext cx="7921440" cy="593064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5"/>
          <p:cNvSpPr/>
          <p:nvPr/>
        </p:nvSpPr>
        <p:spPr>
          <a:xfrm>
            <a:off x="611280" y="5013360"/>
            <a:ext cx="777240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Катарина Парезанови</a:t>
            </a:r>
            <a:r>
              <a:rPr b="0" lang="sr-Latn-CS" sz="2400" spc="-1" strike="noStrike">
                <a:solidFill>
                  <a:srgbClr val="080808"/>
                </a:solidFill>
                <a:latin typeface="Arial"/>
              </a:rPr>
              <a:t>ћ Или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Рехабилитација трауматоло</a:t>
            </a:r>
            <a:r>
              <a:rPr b="1" lang="sr-Latn-CS" sz="4000" spc="-1" strike="noStrike">
                <a:solidFill>
                  <a:srgbClr val="008000"/>
                </a:solidFill>
                <a:latin typeface="Arial"/>
              </a:rPr>
              <a:t>ш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ких</a:t>
            </a:r>
            <a:r>
              <a:rPr b="1" lang="sr-Latn-CS" sz="4000" spc="-1" strike="noStrike">
                <a:solidFill>
                  <a:srgbClr val="008000"/>
                </a:solidFill>
                <a:latin typeface="Arial"/>
              </a:rPr>
              <a:t> </a:t>
            </a:r>
            <a:br>
              <a:rPr sz="4000"/>
            </a:br>
            <a:r>
              <a:rPr b="1" lang="sr-Latn-CS" sz="4000" spc="-1" strike="noStrike">
                <a:solidFill>
                  <a:srgbClr val="008000"/>
                </a:solidFill>
                <a:latin typeface="Arial"/>
              </a:rPr>
              <a:t>болесник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560" y="244440"/>
            <a:ext cx="8015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КОШТАНИ ПРЕЛОМИ</a:t>
            </a:r>
            <a:r>
              <a:rPr b="1" lang="en-US" sz="4400" spc="-1" strike="noStrike">
                <a:solidFill>
                  <a:srgbClr val="ffffb7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835280" y="1904760"/>
            <a:ext cx="6192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мато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о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ганиз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а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мато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вар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ње калус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конструкција к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уса.</a:t>
            </a:r>
            <a:r>
              <a:rPr b="1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6560" y="244440"/>
            <a:ext cx="8015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b7"/>
                </a:solidFill>
                <a:latin typeface="Times New Roman"/>
              </a:rPr>
              <a:t>Успорено</a:t>
            </a:r>
            <a:r>
              <a:rPr b="1" lang="en-GB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 стварање калуса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910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лош пoло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ж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ј фр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гменат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велика д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слокациј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н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епот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п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уна ил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 неад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е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кв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тна имоб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лизац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јa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ко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н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сти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т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уц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и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н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терку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ре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нт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н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 об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о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љењ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Дефин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т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в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н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о несра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с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т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ње ј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е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 псеудоарт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ро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за 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(ствар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ње ла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ж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ног 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зг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лоба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942320" cy="14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Време зарастања прелома костију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pSp>
        <p:nvGrpSpPr>
          <p:cNvPr id="125" name="Group 161"/>
          <p:cNvGrpSpPr/>
          <p:nvPr/>
        </p:nvGrpSpPr>
        <p:grpSpPr>
          <a:xfrm>
            <a:off x="1042920" y="1989000"/>
            <a:ext cx="7561440" cy="3384720"/>
            <a:chOff x="1042920" y="1989000"/>
            <a:chExt cx="7561440" cy="3384720"/>
          </a:xfrm>
        </p:grpSpPr>
        <p:sp>
          <p:nvSpPr>
            <p:cNvPr id="126" name="AutoShape 162"/>
            <p:cNvSpPr/>
            <p:nvPr/>
          </p:nvSpPr>
          <p:spPr>
            <a:xfrm>
              <a:off x="1042920" y="1989000"/>
              <a:ext cx="7561440" cy="33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7" name="Group 163"/>
            <p:cNvGrpSpPr/>
            <p:nvPr/>
          </p:nvGrpSpPr>
          <p:grpSpPr>
            <a:xfrm>
              <a:off x="1042920" y="1989000"/>
              <a:ext cx="7548480" cy="3366720"/>
              <a:chOff x="1042920" y="1989000"/>
              <a:chExt cx="7548480" cy="3366720"/>
            </a:xfrm>
          </p:grpSpPr>
          <p:grpSp>
            <p:nvGrpSpPr>
              <p:cNvPr id="128" name="Group 164"/>
              <p:cNvGrpSpPr/>
              <p:nvPr/>
            </p:nvGrpSpPr>
            <p:grpSpPr>
              <a:xfrm>
                <a:off x="1042920" y="1989000"/>
                <a:ext cx="1377360" cy="1812600"/>
                <a:chOff x="1042920" y="1989000"/>
                <a:chExt cx="1377360" cy="1812600"/>
              </a:xfrm>
            </p:grpSpPr>
            <p:sp>
              <p:nvSpPr>
                <p:cNvPr id="129" name="Rectangle 165"/>
                <p:cNvSpPr/>
                <p:nvPr/>
              </p:nvSpPr>
              <p:spPr>
                <a:xfrm>
                  <a:off x="1129680" y="1989000"/>
                  <a:ext cx="1204200" cy="181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5880" rIns="65880" tIns="32760" bIns="3276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Врста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France YU"/>
                    </a:rPr>
                    <a:t> 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кости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" name="Rectangle 166"/>
                <p:cNvSpPr/>
                <p:nvPr/>
              </p:nvSpPr>
              <p:spPr>
                <a:xfrm>
                  <a:off x="1042920" y="1989000"/>
                  <a:ext cx="1377360" cy="181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" name="Group 167"/>
              <p:cNvGrpSpPr/>
              <p:nvPr/>
            </p:nvGrpSpPr>
            <p:grpSpPr>
              <a:xfrm>
                <a:off x="2420640" y="1989000"/>
                <a:ext cx="1367280" cy="1812600"/>
                <a:chOff x="2420640" y="1989000"/>
                <a:chExt cx="1367280" cy="1812600"/>
              </a:xfrm>
            </p:grpSpPr>
            <p:sp>
              <p:nvSpPr>
                <p:cNvPr id="132" name="Rectangle 168"/>
                <p:cNvSpPr/>
                <p:nvPr/>
              </p:nvSpPr>
              <p:spPr>
                <a:xfrm>
                  <a:off x="2507400" y="1989000"/>
                  <a:ext cx="1194120" cy="181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5880" rIns="65880" tIns="32760" bIns="3276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бутна кост, вертебра,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карлица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" name="Rectangle 169"/>
                <p:cNvSpPr/>
                <p:nvPr/>
              </p:nvSpPr>
              <p:spPr>
                <a:xfrm>
                  <a:off x="2420640" y="1989000"/>
                  <a:ext cx="1367280" cy="181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" name="Group 170"/>
              <p:cNvGrpSpPr/>
              <p:nvPr/>
            </p:nvGrpSpPr>
            <p:grpSpPr>
              <a:xfrm>
                <a:off x="3788640" y="1989000"/>
                <a:ext cx="1200600" cy="1812600"/>
                <a:chOff x="3788640" y="1989000"/>
                <a:chExt cx="1200600" cy="1812600"/>
              </a:xfrm>
            </p:grpSpPr>
            <p:sp>
              <p:nvSpPr>
                <p:cNvPr id="135" name="Rectangle 171"/>
                <p:cNvSpPr/>
                <p:nvPr/>
              </p:nvSpPr>
              <p:spPr>
                <a:xfrm>
                  <a:off x="3875400" y="1989000"/>
                  <a:ext cx="1027080" cy="181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5880" rIns="65880" tIns="32760" bIns="3276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подколеница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France YU"/>
                    </a:rPr>
                    <a:t>(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тибиа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France YU"/>
                    </a:rPr>
                    <a:t>)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72"/>
                <p:cNvSpPr/>
                <p:nvPr/>
              </p:nvSpPr>
              <p:spPr>
                <a:xfrm>
                  <a:off x="3788640" y="1989000"/>
                  <a:ext cx="1200600" cy="181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" name="Group 173"/>
              <p:cNvGrpSpPr/>
              <p:nvPr/>
            </p:nvGrpSpPr>
            <p:grpSpPr>
              <a:xfrm>
                <a:off x="4989600" y="1989000"/>
                <a:ext cx="1200240" cy="1812600"/>
                <a:chOff x="4989600" y="1989000"/>
                <a:chExt cx="1200240" cy="1812600"/>
              </a:xfrm>
            </p:grpSpPr>
            <p:sp>
              <p:nvSpPr>
                <p:cNvPr id="138" name="Rectangle 174"/>
                <p:cNvSpPr/>
                <p:nvPr/>
              </p:nvSpPr>
              <p:spPr>
                <a:xfrm>
                  <a:off x="5075640" y="1989000"/>
                  <a:ext cx="1027080" cy="181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5880" rIns="65880" tIns="32760" bIns="3276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подактица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Rectangle 175"/>
                <p:cNvSpPr/>
                <p:nvPr/>
              </p:nvSpPr>
              <p:spPr>
                <a:xfrm>
                  <a:off x="4989600" y="1989000"/>
                  <a:ext cx="1200240" cy="181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" name="Group 176"/>
              <p:cNvGrpSpPr/>
              <p:nvPr/>
            </p:nvGrpSpPr>
            <p:grpSpPr>
              <a:xfrm>
                <a:off x="6190560" y="1989000"/>
                <a:ext cx="1200240" cy="1812600"/>
                <a:chOff x="6190560" y="1989000"/>
                <a:chExt cx="1200240" cy="1812600"/>
              </a:xfrm>
            </p:grpSpPr>
            <p:sp>
              <p:nvSpPr>
                <p:cNvPr id="141" name="Rectangle 177"/>
                <p:cNvSpPr/>
                <p:nvPr/>
              </p:nvSpPr>
              <p:spPr>
                <a:xfrm>
                  <a:off x="6276600" y="1989000"/>
                  <a:ext cx="1027080" cy="181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5880" rIns="65880" tIns="32760" bIns="3276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кљуцна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France YU"/>
                    </a:rPr>
                    <a:t> 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кост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France YU"/>
                    </a:rPr>
                    <a:t> 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фибула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France YU"/>
                    </a:rPr>
                    <a:t>,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ребра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метатарсус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78"/>
                <p:cNvSpPr/>
                <p:nvPr/>
              </p:nvSpPr>
              <p:spPr>
                <a:xfrm>
                  <a:off x="6190560" y="1989000"/>
                  <a:ext cx="1200240" cy="181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" name="Group 179"/>
              <p:cNvGrpSpPr/>
              <p:nvPr/>
            </p:nvGrpSpPr>
            <p:grpSpPr>
              <a:xfrm>
                <a:off x="7391160" y="1989000"/>
                <a:ext cx="1200240" cy="1812600"/>
                <a:chOff x="7391160" y="1989000"/>
                <a:chExt cx="1200240" cy="1812600"/>
              </a:xfrm>
            </p:grpSpPr>
            <p:sp>
              <p:nvSpPr>
                <p:cNvPr id="144" name="Rectangle 180"/>
                <p:cNvSpPr/>
                <p:nvPr/>
              </p:nvSpPr>
              <p:spPr>
                <a:xfrm>
                  <a:off x="7477920" y="1989000"/>
                  <a:ext cx="1027080" cy="181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5880" rIns="65880" tIns="32760" bIns="3276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метакарпус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France YU"/>
                    </a:rPr>
                    <a:t>, 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фаланге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Rectangle 181"/>
                <p:cNvSpPr/>
                <p:nvPr/>
              </p:nvSpPr>
              <p:spPr>
                <a:xfrm>
                  <a:off x="7391160" y="1989000"/>
                  <a:ext cx="1200240" cy="181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" name="Group 182"/>
              <p:cNvGrpSpPr/>
              <p:nvPr/>
            </p:nvGrpSpPr>
            <p:grpSpPr>
              <a:xfrm>
                <a:off x="1042920" y="3801960"/>
                <a:ext cx="1377360" cy="1553760"/>
                <a:chOff x="1042920" y="3801960"/>
                <a:chExt cx="1377360" cy="1553760"/>
              </a:xfrm>
            </p:grpSpPr>
            <p:sp>
              <p:nvSpPr>
                <p:cNvPr id="147" name="Rectangle 183"/>
                <p:cNvSpPr/>
                <p:nvPr/>
              </p:nvSpPr>
              <p:spPr>
                <a:xfrm>
                  <a:off x="1129680" y="3801960"/>
                  <a:ext cx="1204200" cy="155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5880" rIns="65880" tIns="32760" bIns="3276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време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France YU"/>
                    </a:rPr>
                    <a:t> 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зарастања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France YU"/>
                    </a:rPr>
                    <a:t> 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у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France YU"/>
                    </a:rPr>
                    <a:t> 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месецима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8" name="Rectangle 184"/>
                <p:cNvSpPr/>
                <p:nvPr/>
              </p:nvSpPr>
              <p:spPr>
                <a:xfrm>
                  <a:off x="1042920" y="3801960"/>
                  <a:ext cx="1377360" cy="155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" name="Group 185"/>
              <p:cNvGrpSpPr/>
              <p:nvPr/>
            </p:nvGrpSpPr>
            <p:grpSpPr>
              <a:xfrm>
                <a:off x="2420640" y="3801960"/>
                <a:ext cx="1367280" cy="1553760"/>
                <a:chOff x="2420640" y="3801960"/>
                <a:chExt cx="1367280" cy="1553760"/>
              </a:xfrm>
            </p:grpSpPr>
            <p:sp>
              <p:nvSpPr>
                <p:cNvPr id="150" name="Rectangle 186"/>
                <p:cNvSpPr/>
                <p:nvPr/>
              </p:nvSpPr>
              <p:spPr>
                <a:xfrm>
                  <a:off x="2507400" y="3801960"/>
                  <a:ext cx="1194120" cy="155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5880" rIns="65880" tIns="32760" bIns="32760" anchor="ctr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Arial"/>
                    </a:rPr>
                    <a:t>3 meseca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87"/>
                <p:cNvSpPr/>
                <p:nvPr/>
              </p:nvSpPr>
              <p:spPr>
                <a:xfrm>
                  <a:off x="2420640" y="3801960"/>
                  <a:ext cx="1367280" cy="155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" name="Group 188"/>
              <p:cNvGrpSpPr/>
              <p:nvPr/>
            </p:nvGrpSpPr>
            <p:grpSpPr>
              <a:xfrm>
                <a:off x="3788640" y="3801960"/>
                <a:ext cx="1200600" cy="1553760"/>
                <a:chOff x="3788640" y="3801960"/>
                <a:chExt cx="1200600" cy="1553760"/>
              </a:xfrm>
            </p:grpSpPr>
            <p:sp>
              <p:nvSpPr>
                <p:cNvPr id="153" name="Rectangle 189"/>
                <p:cNvSpPr/>
                <p:nvPr/>
              </p:nvSpPr>
              <p:spPr>
                <a:xfrm>
                  <a:off x="3875400" y="3801960"/>
                  <a:ext cx="1027080" cy="155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5880" rIns="65880" tIns="32760" bIns="32760" anchor="ctr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Arial"/>
                    </a:rPr>
                    <a:t>2 meseca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" name="Rectangle 190"/>
                <p:cNvSpPr/>
                <p:nvPr/>
              </p:nvSpPr>
              <p:spPr>
                <a:xfrm>
                  <a:off x="3788640" y="3801960"/>
                  <a:ext cx="1200600" cy="155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" name="Group 191"/>
              <p:cNvGrpSpPr/>
              <p:nvPr/>
            </p:nvGrpSpPr>
            <p:grpSpPr>
              <a:xfrm>
                <a:off x="4989600" y="3801960"/>
                <a:ext cx="1200240" cy="1553760"/>
                <a:chOff x="4989600" y="3801960"/>
                <a:chExt cx="1200240" cy="1553760"/>
              </a:xfrm>
            </p:grpSpPr>
            <p:sp>
              <p:nvSpPr>
                <p:cNvPr id="156" name="Rectangle 192"/>
                <p:cNvSpPr/>
                <p:nvPr/>
              </p:nvSpPr>
              <p:spPr>
                <a:xfrm>
                  <a:off x="5075640" y="3801960"/>
                  <a:ext cx="1027080" cy="155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5880" rIns="65880" tIns="32760" bIns="3276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Arial"/>
                    </a:rPr>
                    <a:t>6 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недеља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до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Arial"/>
                    </a:rPr>
                    <a:t>2 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месеца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Rectangle 193"/>
                <p:cNvSpPr/>
                <p:nvPr/>
              </p:nvSpPr>
              <p:spPr>
                <a:xfrm>
                  <a:off x="4989600" y="3801960"/>
                  <a:ext cx="1200240" cy="155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Group 194"/>
              <p:cNvGrpSpPr/>
              <p:nvPr/>
            </p:nvGrpSpPr>
            <p:grpSpPr>
              <a:xfrm>
                <a:off x="6190560" y="3801960"/>
                <a:ext cx="1200240" cy="1553760"/>
                <a:chOff x="6190560" y="3801960"/>
                <a:chExt cx="1200240" cy="1553760"/>
              </a:xfrm>
            </p:grpSpPr>
            <p:sp>
              <p:nvSpPr>
                <p:cNvPr id="159" name="Rectangle 195"/>
                <p:cNvSpPr/>
                <p:nvPr/>
              </p:nvSpPr>
              <p:spPr>
                <a:xfrm>
                  <a:off x="6276600" y="3801960"/>
                  <a:ext cx="1027080" cy="155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5880" rIns="65880" tIns="32760" bIns="3276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месец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дана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Arial"/>
                    </a:rPr>
                    <a:t>  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до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Arial"/>
                    </a:rPr>
                    <a:t> 6 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недеља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Rectangle 196"/>
                <p:cNvSpPr/>
                <p:nvPr/>
              </p:nvSpPr>
              <p:spPr>
                <a:xfrm>
                  <a:off x="6190560" y="3801960"/>
                  <a:ext cx="1200240" cy="155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1" name="Group 197"/>
              <p:cNvGrpSpPr/>
              <p:nvPr/>
            </p:nvGrpSpPr>
            <p:grpSpPr>
              <a:xfrm>
                <a:off x="7391160" y="3801960"/>
                <a:ext cx="1200240" cy="1553760"/>
                <a:chOff x="7391160" y="3801960"/>
                <a:chExt cx="1200240" cy="1553760"/>
              </a:xfrm>
            </p:grpSpPr>
            <p:sp>
              <p:nvSpPr>
                <p:cNvPr id="162" name="Rectangle 198"/>
                <p:cNvSpPr/>
                <p:nvPr/>
              </p:nvSpPr>
              <p:spPr>
                <a:xfrm>
                  <a:off x="7477920" y="3801960"/>
                  <a:ext cx="1027080" cy="155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5880" rIns="65880" tIns="32760" bIns="3276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ffffff"/>
                      </a:solidFill>
                      <a:latin typeface="Arial"/>
                    </a:rPr>
                    <a:t>3 - 4 </a:t>
                  </a:r>
                  <a:r>
                    <a:rPr b="1" lang="en-GB" sz="1400" spc="-1" strike="noStrike">
                      <a:solidFill>
                        <a:srgbClr val="ffffff"/>
                      </a:solidFill>
                      <a:latin typeface="Times New Roman"/>
                    </a:rPr>
                    <a:t>недеље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Rectangle 199"/>
                <p:cNvSpPr/>
                <p:nvPr/>
              </p:nvSpPr>
              <p:spPr>
                <a:xfrm>
                  <a:off x="7391160" y="3801960"/>
                  <a:ext cx="1200240" cy="155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" name="Rectangle 200"/>
            <p:cNvSpPr/>
            <p:nvPr/>
          </p:nvSpPr>
          <p:spPr>
            <a:xfrm>
              <a:off x="1042920" y="1989000"/>
              <a:ext cx="7561440" cy="33847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6560" y="244440"/>
            <a:ext cx="8015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Times New Roman"/>
              </a:rPr>
              <a:t>Физикална терапиј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61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У фази имобилизациј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634920" y="1904760"/>
            <a:ext cx="5210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ти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е контракције са тонусом који мора бити ве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од 30% од тонуса у миру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лектростималције - сп обл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ерферентне струј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гнетотерапија(високо фреквентно магнетно импулсно поље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9423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Физикална терапија након имобилизације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идроте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пијa са подв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м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сa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мaсa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 дрена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н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г тип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ф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рaфинотерапиј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билнa галвaнизацiј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гнет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пиј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рапијa рад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нез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eрапијa - само aктивне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 /пасивне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 треба спровoдит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све док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ус није солидан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к нисмо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урн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да немa остеoпорoзе ил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 спровoдит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уз опрезност/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942320" cy="13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Ендопротеза кука</a:t>
            </a:r>
            <a:r>
              <a:rPr b="1" lang="en-US" sz="4000" spc="-1" strike="noStrike">
                <a:solidFill>
                  <a:srgbClr val="ffffb7"/>
                </a:solidFill>
                <a:latin typeface="Times New Roman"/>
              </a:rPr>
              <a:t> </a:t>
            </a:r>
            <a:r>
              <a:rPr b="1" lang="sr-Latn-CS" sz="4000" spc="-1" strike="noStrike">
                <a:solidFill>
                  <a:srgbClr val="ffffb7"/>
                </a:solidFill>
                <a:latin typeface="Times New Roman"/>
              </a:rPr>
              <a:t>(</a:t>
            </a:r>
            <a:r>
              <a:rPr b="1" lang="en-GB" sz="40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Компликације</a:t>
            </a:r>
            <a:r>
              <a:rPr b="1" lang="sr-Latn-CS" sz="4000" spc="-1" strike="noStrike">
                <a:solidFill>
                  <a:srgbClr val="ffffb7"/>
                </a:solidFill>
                <a:latin typeface="Times New Roman"/>
              </a:rPr>
              <a:t>)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lnSpc>
                <a:spcPct val="9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кoм oперацијe - фра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у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хантер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г масивa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ношењe инфекц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e интраопе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ивно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правилно це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и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a е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пр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за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ком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р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 пр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к нa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табул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 што услoвља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ерозију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скавице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сније кост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о шипkа ендопрoтез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није добрo уг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ђ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нa долази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 а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р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ије кости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 ње и н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билност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кла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њa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допрoтез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но oптер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ћ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њe и неправилно дoзирано oптерe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њe мо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 условит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разлaбљењe  eндопрoтез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јавa болoва због нарушеnих д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метри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к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 однoса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ск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туре;појавa oсиф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тa kоји мoгу премости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и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спојит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кос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kарл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 са фeмуро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 напрaвит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р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езу.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26560" y="244440"/>
            <a:ext cx="8015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b7"/>
                </a:solidFill>
                <a:latin typeface="Times New Roman"/>
              </a:rPr>
              <a:t>ФИЗИКАЛНИ ТРЕТМАН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етман поциње првог дана по операцији. Стајање и вертикализација запоциње су тре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г дана од операциј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71640" y="33336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Times New Roman"/>
              </a:rPr>
              <a:t>СЕДЕЊ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колико нема компликација пациј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е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т м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 петог дана од операције да седи.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вде је треба зна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јно лимитирати флексију у куку.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ебне,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сок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олице омогу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вају да се ти захтеви седења испуне а и да устајање буде олакшано.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к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ђ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 треба избегавати у седењу повла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ње ноге уназад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26560" y="244440"/>
            <a:ext cx="8015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Times New Roman"/>
              </a:rPr>
              <a:t>Спавањ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rance YU"/>
                <a:ea typeface="Times New Roman"/>
              </a:rPr>
              <a:t>Примарно сви пацијенти лезе на ледјима уз лако абдуковане ноге при спавању.Сигурност лаке абдукције се мо</a:t>
            </a:r>
            <a:r>
              <a:rPr b="0" lang="sr-CS" sz="2400" spc="-1" strike="noStrike">
                <a:solidFill>
                  <a:srgbClr val="ffffff"/>
                </a:solidFill>
                <a:latin typeface="France YU"/>
                <a:ea typeface="Times New Roman"/>
              </a:rPr>
              <a:t>ж</a:t>
            </a:r>
            <a:r>
              <a:rPr b="0" lang="en-GB" sz="2400" spc="-1" strike="noStrike">
                <a:solidFill>
                  <a:srgbClr val="ffffff"/>
                </a:solidFill>
                <a:latin typeface="France YU"/>
                <a:ea typeface="Times New Roman"/>
              </a:rPr>
              <a:t>е осигурати и уметањем једног јастука измедју ногу.Окретање у кревету и друге покрете који укљу</a:t>
            </a:r>
            <a:r>
              <a:rPr b="0" lang="sr-CS" sz="2400" spc="-1" strike="noStrike">
                <a:solidFill>
                  <a:srgbClr val="ffffff"/>
                </a:solidFill>
                <a:latin typeface="France YU"/>
                <a:ea typeface="Times New Roman"/>
              </a:rPr>
              <a:t>ћ</a:t>
            </a:r>
            <a:r>
              <a:rPr b="0" lang="en-GB" sz="2400" spc="-1" strike="noStrike">
                <a:solidFill>
                  <a:srgbClr val="ffffff"/>
                </a:solidFill>
                <a:latin typeface="France YU"/>
                <a:ea typeface="Times New Roman"/>
              </a:rPr>
              <a:t>ују и кукове треба избегавати.Након 6 недеља мозе се слободније изводити окретање у кревету. .У првом месецу након операције треба максимално избегавати ле</a:t>
            </a:r>
            <a:r>
              <a:rPr b="0" lang="sr-CS" sz="2400" spc="-1" strike="noStrike">
                <a:solidFill>
                  <a:srgbClr val="ffffff"/>
                </a:solidFill>
                <a:latin typeface="France YU"/>
                <a:ea typeface="Times New Roman"/>
              </a:rPr>
              <a:t>ж</a:t>
            </a:r>
            <a:r>
              <a:rPr b="0" lang="en-GB" sz="24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ње на трбух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5888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b7"/>
                </a:solidFill>
                <a:latin typeface="Times New Roman"/>
              </a:rPr>
              <a:t>Забрањени покрети у првих 6 недељ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лексија у куку преко 90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дукција кука преко средње линије те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разена спољна и унутрашња ротација кука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тивна абдукција (због слабости и ресекције абдуктора кука или великог троцантера па је потребно време до њиховог реституисања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3600" y="33336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ПОВРЕДЕ МЕКИХ ТКИВА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7280" y="1876320"/>
            <a:ext cx="7956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5280" indent="-395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узије миши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, тетива, нерава и зглобо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5280" indent="-395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сторзије зглобо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5280" indent="-395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стензије миши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 и лигаменат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5280" indent="-395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рцијалне или комплетне руптуре миши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 и тети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5280" indent="-395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кција тети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5280" indent="-3952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уксације зглобо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9423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Times New Roman"/>
              </a:rPr>
              <a:t>Дозвољено према времену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Дозвоље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одање са штакама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месец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пање под тушем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 14 да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ивање у базену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 3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да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прављање путницким аутомобилом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 3 месе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е зивотне активности за зивотну доб</a:t>
            </a:r>
            <a:br>
              <a:rPr sz="2400"/>
            </a:b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 3 месе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појави болова узети аналгетике,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ибиотике и NS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6560" y="244440"/>
            <a:ext cx="831708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Times New Roman"/>
              </a:rPr>
              <a:t>Упуство за свакодневни живот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Потребно ј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шење еластицних завоја или еластицних царап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прете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 у току ходања или седења-скидање ноц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br>
              <a:rPr sz="2400"/>
            </a:b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месе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дење на високој столици и адаптираном тоалету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br>
              <a:rPr sz="2400"/>
            </a:b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месе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дење у кревету са испрузеним ногама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br>
              <a:rPr sz="2400"/>
            </a:b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месе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акодневно спроводјење нацених везби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br>
              <a:rPr sz="2400"/>
            </a:b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ог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во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9423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Times New Roman"/>
              </a:rPr>
              <a:t>Закључа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крају треба ре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да су лекар- оператор и физијатар обавезни да пацијенту издају код отпуста из болнице" протеза - пасош". Овај документ треба да садрзи све елементе везане за операцију, тип, вели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у и друге специфи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сти.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вај докуемнт треба да слузи ради контролних прегледа, а посебно код контрола на аеродромима, јер се метални делови кроз сигурносне провере региструју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66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Times New Roman"/>
              </a:rPr>
              <a:t>Подела повреда меких ткив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68360" y="1904760"/>
            <a:ext cx="4608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аза запаљењ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аза репарациј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560" y="244440"/>
            <a:ext cx="8015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 </a:t>
            </a:r>
            <a:r>
              <a:rPr b="1" lang="en-GB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Фаза запаљења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аза запаљења је код свих повреда реактивног типа на настали прекид нормалне функције. Повреда доводи до оштецења и изумирања целија повредјеног ткива. Из изумрлих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лија излазе лизозомни ензими који имају даљи утицај на распадање детритуса. Формирани хемијски елементи делују на околно ткиво. Долази до вазодилатације, ексудације те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сти у околно ткиво из крвних судова и лимфног тока. Ова фаза траје неколико дана, код лаких повреда, а код те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х м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 трајати и до две недељ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560" y="244440"/>
            <a:ext cx="8015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Times New Roman"/>
              </a:rPr>
              <a:t>Фаза репарациј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руга фаза запо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ње 3 или 4 дана од повреде када долази до арборизације крвних судова тј. формирања капиларних пупољака, који се канализују и формирају нову капиларну мрезу. У поцетку су они пропустљивији него обицно, али због тога долази до лакшег одавања угрозеном ткиву кисеоника и хранљивих материја из новонасталих крвних судова. Истовремено поциње активност и фибробласта који полазу еластицна фиброзна влакна. На тај нацин поциње да се организује хематом који је у медјувремену фиброзирао јер је фибриноген под деловањем ослободјеног тромбина из тромбоцита условио прелаз у фибрин. Такодје овај фибрин је био и пребојен ослободјеним хемоглобином. Долази и до мењања боје оштеценог ткива од модро плаве до зуцкасте и на крају до обезбојавања. Формирана фиброзна влакна која су у по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тку еластицна, поцињу да се ретрахују задебљавају и прелазе у колегана влакна. Цео овај процес траје око две до три недељ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00000" y="692280"/>
            <a:ext cx="7942320" cy="98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France YU"/>
                <a:ea typeface="Times New Roman"/>
              </a:rPr>
              <a:t>Рехабилитација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хабилитација повреда меких ткива има за основни циљ да спреци настанак грубог озиљног ткива које мозе довести до знатнијег оштецења функциј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првој фази основно је спрецити крварење и развој едема а што се постизе криотерапијом, елевацијом и компресивним завојем. Овакав приступ условљава смањење бола и спазма околних мишиц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кон 24 - 48 сати после трауме треба побољшати периферну циркулацију, поспешити ресорпцију еxтравазата, смањење бола, успостављање физиолошке покретљивости и успостављање мишицне снаг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Физикалне мере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61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дем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700360" y="1904760"/>
            <a:ext cx="6145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иотерапиј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изменицне купк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ртолозне купк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одна галванизациј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рафинска паковањ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KJ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 /sp облик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s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гнетотерапиј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масаза /дреназног типа/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незитерапиј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6560" y="244440"/>
            <a:ext cx="8015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b7"/>
                </a:solidFill>
                <a:latin typeface="Times New Roman"/>
              </a:rPr>
              <a:t>Физикалне мере</a:t>
            </a:r>
            <a:r>
              <a:rPr b="1" lang="en-US" sz="4400" spc="-1" strike="noStrike">
                <a:solidFill>
                  <a:srgbClr val="ffffb7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61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Бол</a:t>
            </a:r>
            <a:r>
              <a:rPr b="1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2916360" y="1904760"/>
            <a:ext cx="5929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ритемне дозе ув зра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одна галванизаци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ф ново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д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нс терапи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6560" y="244440"/>
            <a:ext cx="8015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b7"/>
                </a:solidFill>
                <a:latin typeface="Times New Roman"/>
              </a:rPr>
              <a:t>Физикалне мер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61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Рефлексне дистрофиј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76360" y="1904760"/>
            <a:ext cx="55688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збити бол /као горе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УЗ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на ганглион стеллату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нсцереблана галванизациј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незитерапија уз мере опрез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фс + магнетотерап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рапија рад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сихотерапија</a:t>
            </a:r>
            <a:r>
              <a:rPr b="1" lang="en-GB" sz="2400" spc="-1" strike="noStrike">
                <a:solidFill>
                  <a:srgbClr val="ffffff"/>
                </a:solidFill>
                <a:latin typeface="France YU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rance YU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12:07:36Z</dcterms:created>
  <dc:creator>WIN98SE</dc:creator>
  <dc:description/>
  <dc:language>en-US</dc:language>
  <cp:lastModifiedBy>katarinaparezanovicilic@gmail.com</cp:lastModifiedBy>
  <dcterms:modified xsi:type="dcterms:W3CDTF">2020-09-26T17:01:45Z</dcterms:modified>
  <cp:revision>14</cp:revision>
  <dc:subject/>
  <dc:title>Rehabilitacija traumatoloških bolesnika</dc:title>
</cp:coreProperties>
</file>