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062-10ED-4DB2-8C1B-C20F9A97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6E71-F7CF-48C7-B7D1-7BE56048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ECF-4A5C-4AAC-A248-E6AD2DF9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0FB-C48B-4C15-A199-D4D375C8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878B-505A-4316-A162-F622AEA5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C9BB-A1CE-4A81-A14A-51C44D74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00CD-A837-401A-A1B3-4D82FA2E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4724-59AC-4B16-B99D-3584C344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1B04-15FD-423F-A878-261D5791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31ED-19B6-42D7-A462-6A630D85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E3F8-CD50-490C-BFC2-372B6FD4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580-9FB8-4EFB-8A95-DF51845D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196F-53FB-469E-8135-23F23B90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CDEB-D9D0-407D-AB5D-5890A64E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1CF2-A2D3-43B7-BA8E-F12131EA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E0AE-D586-4865-8A03-4C0C8BFE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ECDD-6D27-4BC2-914D-A16D0C4A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98A-1446-4EEF-A2D0-50CD660B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63F3-DA92-47F1-83D1-339CDD72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B73-D6CB-4C9C-B2D2-5E8BC461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8DC-AD75-47D6-A143-0BE39258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3F2-3CCC-4C04-A476-650E6EBB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92B0-5EBC-4A28-B315-F5AA59AA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BB5-2CD1-4E4F-839B-0DBEFA77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0283-528E-4D54-9EAC-3DF0FC3FD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C1F9-2AA6-4A95-812E-8590CEBE36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6"/>
                </a:solidFill>
                <a:latin typeface="Times New Roman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Рехабилитација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реуматских обољењ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BUS BECHTEREW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ndroma Marie-Strumpell- Bechte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јбољи назив, који је данас прихваћен, је Morbus Bechte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зиви као "анкилозирајући спондилитис" и слични, иако су прихваћени имају и својих мањкавости, јер у себи садрже тумачење да је анкилоза кичменог стуба неизбежна последица. Такодје, овај назив искључује обољење периферних зглобова, а сам по себи јатрогенизује болес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рапеутске вежбе се спроводе у циљу спречавања развоја контрактура (коксофеморални зглобови), јачања паравертебралне мускулатуре и очување респираторног капацитета. После овакве активности, потребан је довољно дуг одмор. Одмор треба да износи најмање 10-12 сати у току 24 сата. Но, најбоље је одмор одредјивати индивидуално (равнотежа измедју одмора и физичке активности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жај треба да је твр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, а пацијент мора лежати на ледјима. Уколико не може због болова да заузме ледјни положај, онда је дозвољен и положај лежања на трбуху. Забрањено је лежање на страни, односно лежање на б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ржавање правилног држања и покретљивo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мeнoг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б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фази ремисије се може слободније радити у циљу истих захтева који су горе наведен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јачање паравертебралне мускулатур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бољшање дисајне функциј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речавање контрактура у коксофеморалним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глобови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мор у току дана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н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ме бити краћи од 8 - 10 са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981080"/>
            <a:ext cx="748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ред кинезитерапије, примењујемо КТД, хидротерапију, подводне масаже, ултразвук, интерферентне струје, ласер терапију и магнетотерапију. Ултразвук се користи у дозама већим од 1 W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и то дуж кичменог стуба и у пределу с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илиачних зглобо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себно би истакли да је кинезитерапија стожер физикалне терапиј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век усправно стајати, ходати или седе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д седења седиште треба да је тврдо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жање је увек без јастука, а лежај треба да је тврд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бегавати свако савијање напред и подизање терета у савијеном положај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незитерапија мора бити искључиво континуиран процес (вежбати сваки дан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920" y="1981080"/>
            <a:ext cx="74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д ортопедских мера најчешће се користи употреба растеретних мидера и појасева у циљу корекције кифозе. Понекад се примењују и ортопедске мере у лечењу анкилозантног спондилитиса. Од тих мера најчешћа је употреба појасева - мидера и то растеретних и корективних у циљу корекције кифоз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ехабилитација код дегенеративног реуматизм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65502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етодологија евалуациј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дивидуални присту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Локализација проц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Функционална анали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кутност проц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Акутна фа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79640" y="1981080"/>
            <a:ext cx="647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зиционир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риотерап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татичке вежб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алгетске физикалне процедур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ЕН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ДД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асер (аналгетска фреквенциј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Хронична фа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6000" y="1981080"/>
            <a:ext cx="67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Термо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Хидро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Електро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Кинезитерапи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ктивне вежбе у циљу прогресивног јачања мускулатур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већање обима покр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рекција постуралних поремећа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Циљеви рехабилита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речавање развоја мишићних атрофиј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речавање развоја контрактура зглобов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пречавање развоја остеопорозе и деструкције костију због инактивите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Циљеви рехабилита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мператив физикалне терапије је активни покрет. Но, у акутној фази намеће се супротност у виду мировања и позиционирања захваћених зглобова. Медјутим, и овде се може применити активни покрет кроз вид статичких контракција. По смиривању акутног процеса прелази се на динамичке контракције као једини вид природног активног покр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аза ремис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пелоидна паковањ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термотерапија (топла и хладна диферентна зона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ултразвук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ласер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импулсно магнетно пољ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електротерапија (стабилна галванизација, КТД, интерферентне струје, електростимулације и др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-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имена радне терапије је битан елемент функционалне терапије и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окупационе терапиј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ункционални капацитет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981080"/>
          <a:ext cx="7772400" cy="4289400"/>
        </p:xfrm>
        <a:graphic>
          <a:graphicData uri="http://schemas.openxmlformats.org/drawingml/2006/table">
            <a:tbl>
              <a:tblPr/>
              <a:tblGrid>
                <a:gridCol w="1325520"/>
                <a:gridCol w="6446880"/>
              </a:tblGrid>
              <a:tr h="81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ре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ункционално стањ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пуни функцијски капацитет, уз потпуно одржану радну способно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ржана функционална способност за нормалну свакодневну активност (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 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ност), упркос ограниченој покрњетљивости једног или више зглоб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пуни функцијски капацитет који значајно смањује радну способност. Није потребна туђа нега зглобо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пуна функционална неспособност, неопходна стална туђа нега и помо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 стадијум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ировање у растеретном положају уз одржавање функционалног положаја зглоб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риотерапиј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инезиетрапија (статичке контракције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сихолошка потп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дукација болесника (упознавање са процесом болести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шавање социјалних проблема болесни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I стадијум 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стадијум анатомских оштећења, контрактура и деформитета)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дозиранa кинезитерапиј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вежбе са помагaлим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топле купке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лтразвук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интерферeнтnе струје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ласеротерапиј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акупuнктура (иако још увек није јасaн nачин деловањa, код појединiх случајева долази до побoљшањa)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парaфинска и пелоидна паковањa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едукација болесник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психолoшка потпора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решавaње социјалних проблема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II стадијум 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након хируршких интервенција, синовектомије, алоартропластике, артродезе и др.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незитерапија, комбинованa са хидротерапијом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ермотерапија илi криотерапија (завис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д степeна акутности обoљења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лтразвук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терферeнтnе струј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асер терапиј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дукациј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сихолoшка потпор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шавaње социјалних проблем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V стадијум 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стадијум тешких деформација)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2920" y="1981080"/>
            <a:ext cx="741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идрокинезитерапиј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мена средстава за самозбрињавањ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дукациј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сихол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 потп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шавање социјалних проблем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20:41:46Z</dcterms:created>
  <dc:creator>WIN98SE</dc:creator>
  <dc:description/>
  <dc:language>en-US</dc:language>
  <cp:lastModifiedBy>Kaca</cp:lastModifiedBy>
  <dcterms:modified xsi:type="dcterms:W3CDTF">2022-08-20T13:34:47Z</dcterms:modified>
  <cp:revision>10</cp:revision>
  <dc:subject/>
  <dc:title>Rehabilitacija reumatskih oboljenja</dc:title>
</cp:coreProperties>
</file>